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F3C-AAA6-4C54-911E-2CDC3797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213-E02F-49B5-BBB2-99A3AEF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4B8-385C-4FF7-B9AD-2B32750D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147-A62F-4C07-A5A8-9BAD2FBF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3A7-D4CE-45F2-A470-330ADC96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EDF-CFDA-4433-A171-632F1AD9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F51-08D0-4823-9F5E-7F66AE88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609-7C1B-4284-B0D9-F9C1854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D1E-B11D-4831-B55A-668B863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BC4-8FC3-46B2-8BEF-431510F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4FA-B197-4FA3-AD62-64DBF995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1DC-A687-4846-B93B-B485D21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DE4-7842-404C-A5B6-7A509485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ngsanaUPC"/>
              </a:rPr>
              <a:t>How Maori communic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ngsanaUPC"/>
              </a:rPr>
              <a:t>By Summer and Z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ngsanaUPC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 Maori can communicate by gr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Maori can communicate by a welcome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They put a note on a birds feet and send it o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ff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ngsanaUPC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ori fire to communicate by smoke it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2:18:26Z</dcterms:created>
  <dc:creator>5d01</dc:creator>
  <dc:description/>
  <dc:language>en-US</dc:language>
  <cp:lastModifiedBy>5d01</cp:lastModifiedBy>
  <dcterms:modified xsi:type="dcterms:W3CDTF">2013-06-06T02:57:04Z</dcterms:modified>
  <cp:revision>2</cp:revision>
  <dc:subject/>
  <dc:title>How Maori communicate?</dc:title>
</cp:coreProperties>
</file>